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6328-295B-46C4-BDAB-DF7A33D2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8AA0-095E-4222-B4E7-C9D5F073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6127-3B02-4FEC-86DA-E35681EA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A442-44E1-4FF4-98C6-0D17654C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910A-F67B-4EA9-AF54-7D82AD3B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FDB2-7A76-49BB-933B-F8620AF2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8E14-3870-4D8D-B8E2-77B1FED1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722B-728C-423B-8835-8B2877D7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54BA-019B-4499-AFD6-DCE1DE61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2919-F094-4503-B809-411D46E1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489F-2D18-452F-8E5A-AFD878E0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B96F-815E-4EA4-9419-9AF7D640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3334-8C0E-4343-B215-AC241FF16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6560" y="824040"/>
            <a:ext cx="82108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6560" y="824040"/>
            <a:ext cx="8210880" cy="52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6560" y="824040"/>
            <a:ext cx="82108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6560" y="824040"/>
            <a:ext cx="82108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7:22:07Z</dcterms:created>
  <dc:creator>Patrick J. Mooney</dc:creator>
  <dc:description/>
  <dc:language>en-US</dc:language>
  <cp:lastModifiedBy>Patrick J. Mooney</cp:lastModifiedBy>
  <dcterms:modified xsi:type="dcterms:W3CDTF">2010-09-15T17:39:23Z</dcterms:modified>
  <cp:revision>3</cp:revision>
  <dc:subject/>
  <dc:title>Slide 1</dc:title>
</cp:coreProperties>
</file>